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FE33-0D28-4987-871E-5EDBCA087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ist.gov/oles/forensics/biology_dna.c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1/021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rugline.org/medic/term/meiotic-nondisjunc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jp.psychiatryonline.org/Mobile/article.aspx?articleid=175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junction.com/karyotype_lab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arveendulai.wikispaces.com/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information: http://www.marchofdimes.com/baby/birthdefects_chromosoma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information: http://www.marchofdimes.com/baby/birthdefects_chromosoma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eneticsandsociety.org/article.php?id=4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image of hosta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ooseyscountrygarden.com/garden-journal-06/autumn-garden-journal-64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research.psu.edu/arp/research-reviews/ultra-deep-sequencing-of-mouse-mitochondrial-dna-mutational-patterns-and-their-ori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image of Elysia chlorotica (green sea slu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ired.com/wiredscience/2010/01/green-sea-slu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3E8D-97D0-4360-A60F-17612F13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DB1-74DA-411A-88CE-BE88C368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F64-532C-4697-8997-65623596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70E-CB25-48E1-BF84-E5D67EE6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444-4BAD-4A7F-ADCC-677191D5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B02-0442-42D7-BDBD-20D4FEE0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463-2C47-4946-A031-0DA9D92E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C5F-EA3C-48DF-B51A-9DA095F2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37F3-B69A-40F6-B239-C8241717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5AF-EE4D-452A-8328-7FCA4252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BACF-B480-4BCF-B3BB-9F409F35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CDC-77CE-41B3-A043-3A2D40B0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6890-B87C-478A-90E6-0769102A9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tic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normal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disjunction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toplasmic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atic cell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pl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vide very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y have two sets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one set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ha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di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reproductive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ha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di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reproductive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e similar in size a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e found in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e found in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separate during 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e similar in size a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e found in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e found in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separate during 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. 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let’s look at meiosis ag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58920" y="609480"/>
            <a:ext cx="4826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kinds of errors can happen during mei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disj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ppen dur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phas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dur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 gametes can 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o 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o f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happen in mitosis, but this is less harmful because it isn’t passed on to the next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787320"/>
            <a:ext cx="7772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view some 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al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ng numbe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(mutations) in the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8320" y="2567160"/>
            <a:ext cx="38098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yotype - male or fema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yotype - male or fema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84520" y="1981080"/>
            <a:ext cx="557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 syndrome (trisomy 2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about 1 in 800 bab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degrees of intellectual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 faci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have heart defects and oth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omy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omy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omy 13 &amp; Trisomy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n 16000 babies are born with   trisomy 13 and 1 in 5000 are born    with trisomy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intellectual dis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hysical birth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ffected babies die before their first birth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inefelt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inefelt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about 1 in 500-1000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have normal intelligence but many have learn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dults they produce less than normal amounts of testosterone and are in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ody cells are also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er syndrom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monosomy 2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1 in 2500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infertile and do not undergo normal puberty changes unless they are treated with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health problems including heart and kidney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intelligence but some have learning difficu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le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le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1 in 1000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no physical birth defects, experience normal puberty and are 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have normal intelligence but many have learn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Y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Y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1 in 1000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taller than average, have normal sexual development and are 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have normal intelligence, though some have learning, behavioral and speech/languag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sted Reproductive Technologies (AR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vitro fertilization (IV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in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&amp;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breeding &amp; wildlife con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enefits to using artificial in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plasmic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ody cells are also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plasmic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n mitochondria and chlorop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perm cell fertilizes an egg cell, which cell contributes the cytoplasmic D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nal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ernal inheritance (less comm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Variation -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green chlorop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chloroplasts with genetic mu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8320" y="2647800"/>
            <a:ext cx="3809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Variation - Hum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are genetic disorders caused by mutations in mitochondrial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egg sw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izontal Gene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86080" y="19810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cell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cell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hum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atic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kin cells, bone cells, nerve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perm cells, eg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human somatic cell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. skin cells, bone cells, nerve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perm cells, eg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atic cell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pl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vide very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wo sets of    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one set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2:19:47Z</dcterms:created>
  <dc:creator>rubina khan</dc:creator>
  <dc:description/>
  <dc:language>en-US</dc:language>
  <cp:lastModifiedBy>rubina khan</cp:lastModifiedBy>
  <dcterms:modified xsi:type="dcterms:W3CDTF">2013-03-07T17:24:13Z</dcterms:modified>
  <cp:revision>181</cp:revision>
  <dc:subject/>
  <dc:title>Genetic Processes</dc:title>
</cp:coreProperties>
</file>